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5F4-9869-40CC-9EEC-3298E9C2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7D0-708E-4112-9A7D-4C0C548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B58-F148-4B47-86A1-CA26E3B8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564-42C9-4068-B71A-D3D66859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2B81-D4A0-40F1-9B62-5B418BBD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4E4-BFCC-40A6-82F1-2E11EBD5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5BAE-0086-4A2D-914A-6BABEC3E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3291-E44F-430A-951A-CCA5BDD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3D11-A827-48C2-AA05-B9BF34B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12B4-6001-4A60-B62C-9D885ED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B88-8DBE-4020-8A95-CAC9C5A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29C-A5E3-41A6-87C1-6036EC76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795A-749B-4F64-BCBF-8F6CAD8F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04D-171A-443A-83B1-E9F4F5D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7FC3-594E-444F-A802-18CB352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691C-15E3-4CAC-9718-FBCDB4F1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E10-D6FC-49A0-8464-370F67A1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857-CA6F-476D-8379-824808B6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3B6-0175-4BB6-9350-7A584FF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A6D-A752-4E94-9DED-C3B044BC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CF8-1610-4556-83DE-2B8ED956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D0F-810E-4DB4-BD13-BCDBDD2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22B-51B2-4A01-900E-968C5577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F6B-BB43-4C53-A2C0-AA399FA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63880" y="2927520"/>
            <a:ext cx="9217800" cy="175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87" name="Изображение 3" descr="og_og_1567193216275491976"/>
          <p:cNvPicPr/>
          <p:nvPr/>
        </p:nvPicPr>
        <p:blipFill>
          <a:blip r:embed="rId1"/>
          <a:stretch/>
        </p:blipFill>
        <p:spPr>
          <a:xfrm>
            <a:off x="380880" y="438120"/>
            <a:ext cx="114296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4" name="Изображение 3" descr="5ebfd82445bd5c46db00a8a7c46bb5182451326a"/>
          <p:cNvPicPr/>
          <p:nvPr/>
        </p:nvPicPr>
        <p:blipFill>
          <a:blip r:embed="rId1"/>
          <a:stretch/>
        </p:blipFill>
        <p:spPr>
          <a:xfrm>
            <a:off x="1016640" y="190440"/>
            <a:ext cx="8945640" cy="67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7" name="Изображение 3" descr=""/>
          <p:cNvPicPr/>
          <p:nvPr/>
        </p:nvPicPr>
        <p:blipFill>
          <a:blip r:embed="rId1"/>
          <a:stretch/>
        </p:blipFill>
        <p:spPr>
          <a:xfrm>
            <a:off x="464760" y="333360"/>
            <a:ext cx="10776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0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3" name="Изображение 3" descr="cf2b966s-1920"/>
          <p:cNvPicPr/>
          <p:nvPr/>
        </p:nvPicPr>
        <p:blipFill>
          <a:blip r:embed="rId1"/>
          <a:stretch/>
        </p:blipFill>
        <p:spPr>
          <a:xfrm>
            <a:off x="782280" y="0"/>
            <a:ext cx="10626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6" name="Изображение 3" descr="1508428399BANNER_primerosperritosespacio"/>
          <p:cNvPicPr/>
          <p:nvPr/>
        </p:nvPicPr>
        <p:blipFill>
          <a:blip r:embed="rId1"/>
          <a:stretch/>
        </p:blipFill>
        <p:spPr>
          <a:xfrm>
            <a:off x="0" y="546840"/>
            <a:ext cx="12191760" cy="57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0" name="Изображение 3" descr=""/>
          <p:cNvPicPr/>
          <p:nvPr/>
        </p:nvPicPr>
        <p:blipFill>
          <a:blip r:embed="rId1"/>
          <a:stretch/>
        </p:blipFill>
        <p:spPr>
          <a:xfrm>
            <a:off x="609480" y="190440"/>
            <a:ext cx="10143000" cy="63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3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6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9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2" name="Изображение 3" descr="belka-i-strelka"/>
          <p:cNvPicPr/>
          <p:nvPr/>
        </p:nvPicPr>
        <p:blipFill>
          <a:blip r:embed="rId1"/>
          <a:stretch/>
        </p:blipFill>
        <p:spPr>
          <a:xfrm>
            <a:off x="0" y="1099800"/>
            <a:ext cx="121917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5" name="Изображение 3" descr="eXApUAZ7IobsAOZLlM_7zqDrUg8AUA2ROLPSZmBGDDWoAcEJNzCuP6Had4suCSyeilItoWLTgMRFn32b85ysljFL"/>
          <p:cNvPicPr/>
          <p:nvPr/>
        </p:nvPicPr>
        <p:blipFill>
          <a:blip r:embed="rId1"/>
          <a:stretch/>
        </p:blipFill>
        <p:spPr>
          <a:xfrm>
            <a:off x="134640" y="1004400"/>
            <a:ext cx="102474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8" name="Изображение 3" descr=""/>
          <p:cNvPicPr/>
          <p:nvPr/>
        </p:nvPicPr>
        <p:blipFill>
          <a:blip r:embed="rId1"/>
          <a:stretch/>
        </p:blipFill>
        <p:spPr>
          <a:xfrm>
            <a:off x="-5976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1" name="Изображение 3" descr="MeKIDDCXYYA"/>
          <p:cNvPicPr/>
          <p:nvPr/>
        </p:nvPicPr>
        <p:blipFill>
          <a:blip r:embed="rId1"/>
          <a:stretch/>
        </p:blipFill>
        <p:spPr>
          <a:xfrm>
            <a:off x="0" y="990720"/>
            <a:ext cx="12191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06T06:34:23Z</dcterms:created>
  <dc:creator/>
  <dc:description/>
  <dc:language>en-US</dc:language>
  <cp:lastModifiedBy>Екатерина Пономарёва</cp:lastModifiedBy>
  <dcterms:modified xsi:type="dcterms:W3CDTF">2025-04-06T06:49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D653606316A4BEF8B0FCF365913BDFC_12</vt:lpwstr>
  </property>
  <property fmtid="{D5CDD505-2E9C-101B-9397-08002B2CF9AE}" pid="3" name="KSOProductBuildVer">
    <vt:lpwstr>1049-12.2.0.20782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