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CF5-3EE2-4D50-ACDB-6E0A1B2A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FD2-5E4F-43A0-B760-3F4FD416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B37-92C7-4FB6-B056-9577D274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4EC-4929-47A4-B661-A31BABE5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D214-1EAD-4631-964E-76EBFA17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C755-5683-4163-B73B-FA0CBA6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DCF7-CC23-4738-BF96-ACA17B4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CBAA-FB9F-4C8B-B98D-02E1C485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FA84-6892-4FA9-8476-F7883E64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86FC-8449-4F21-B9B9-DD7BE1D1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B971-A0B5-45C9-A64A-69CE8A7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C4A-DC0A-4BE3-B41D-C678662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95C-7E26-45B1-8300-D0D37AEB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9850-3EC3-449E-B445-6892C5F5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2A86-0DB8-4A18-9E2E-9EBBFB9E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C046-FCE1-4DBF-8F64-23287DD5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F0A8-F851-48D1-89BC-4E0AC75F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D85-4C19-4AF4-9CB3-3A72627A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207-B772-4D34-8E8D-3E3575D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E0C-8C0A-4C48-B4C8-2D8A5761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A8B-00F2-4F9F-BE2E-72436430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5FC-5F83-4BDF-B75C-10020D5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80B-7799-4621-9D3C-1465F773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478-216E-43CE-B699-446FCABE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63880" y="2927520"/>
            <a:ext cx="9217800" cy="175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87" name="Изображение 3" descr="og_og_1567193216275491976"/>
          <p:cNvPicPr/>
          <p:nvPr/>
        </p:nvPicPr>
        <p:blipFill>
          <a:blip r:embed="rId1"/>
          <a:stretch/>
        </p:blipFill>
        <p:spPr>
          <a:xfrm>
            <a:off x="380880" y="438120"/>
            <a:ext cx="114296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4" name="Изображение 3" descr="5ebfd82445bd5c46db00a8a7c46bb5182451326a"/>
          <p:cNvPicPr/>
          <p:nvPr/>
        </p:nvPicPr>
        <p:blipFill>
          <a:blip r:embed="rId1"/>
          <a:stretch/>
        </p:blipFill>
        <p:spPr>
          <a:xfrm>
            <a:off x="1016640" y="190440"/>
            <a:ext cx="8945640" cy="67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7" name="Изображение 3" descr=""/>
          <p:cNvPicPr/>
          <p:nvPr/>
        </p:nvPicPr>
        <p:blipFill>
          <a:blip r:embed="rId1"/>
          <a:stretch/>
        </p:blipFill>
        <p:spPr>
          <a:xfrm>
            <a:off x="464760" y="333360"/>
            <a:ext cx="10776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0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3" name="Изображение 3" descr="cf2b966s-1920"/>
          <p:cNvPicPr/>
          <p:nvPr/>
        </p:nvPicPr>
        <p:blipFill>
          <a:blip r:embed="rId1"/>
          <a:stretch/>
        </p:blipFill>
        <p:spPr>
          <a:xfrm>
            <a:off x="782280" y="0"/>
            <a:ext cx="10626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6" name="Изображение 3" descr="1508428399BANNER_primerosperritosespacio"/>
          <p:cNvPicPr/>
          <p:nvPr/>
        </p:nvPicPr>
        <p:blipFill>
          <a:blip r:embed="rId1"/>
          <a:stretch/>
        </p:blipFill>
        <p:spPr>
          <a:xfrm>
            <a:off x="0" y="546840"/>
            <a:ext cx="12191760" cy="57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0" name="Изображение 3" descr=""/>
          <p:cNvPicPr/>
          <p:nvPr/>
        </p:nvPicPr>
        <p:blipFill>
          <a:blip r:embed="rId1"/>
          <a:stretch/>
        </p:blipFill>
        <p:spPr>
          <a:xfrm>
            <a:off x="609480" y="190440"/>
            <a:ext cx="10143000" cy="63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3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6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9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2" name="Изображение 3" descr="belka-i-strelka"/>
          <p:cNvPicPr/>
          <p:nvPr/>
        </p:nvPicPr>
        <p:blipFill>
          <a:blip r:embed="rId1"/>
          <a:stretch/>
        </p:blipFill>
        <p:spPr>
          <a:xfrm>
            <a:off x="0" y="1099800"/>
            <a:ext cx="121917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5" name="Изображение 3" descr="eXApUAZ7IobsAOZLlM_7zqDrUg8AUA2ROLPSZmBGDDWoAcEJNzCuP6Had4suCSyeilItoWLTgMRFn32b85ysljFL"/>
          <p:cNvPicPr/>
          <p:nvPr/>
        </p:nvPicPr>
        <p:blipFill>
          <a:blip r:embed="rId1"/>
          <a:stretch/>
        </p:blipFill>
        <p:spPr>
          <a:xfrm>
            <a:off x="134640" y="1004400"/>
            <a:ext cx="102474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8" name="Изображение 3" descr=""/>
          <p:cNvPicPr/>
          <p:nvPr/>
        </p:nvPicPr>
        <p:blipFill>
          <a:blip r:embed="rId1"/>
          <a:stretch/>
        </p:blipFill>
        <p:spPr>
          <a:xfrm>
            <a:off x="-5976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1" name="Изображение 3" descr="MeKIDDCXYYA"/>
          <p:cNvPicPr/>
          <p:nvPr/>
        </p:nvPicPr>
        <p:blipFill>
          <a:blip r:embed="rId1"/>
          <a:stretch/>
        </p:blipFill>
        <p:spPr>
          <a:xfrm>
            <a:off x="0" y="990720"/>
            <a:ext cx="12191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06T06:34:23Z</dcterms:created>
  <dc:creator/>
  <dc:description/>
  <dc:language>en-US</dc:language>
  <cp:lastModifiedBy>Екатерина Пономарёва</cp:lastModifiedBy>
  <dcterms:modified xsi:type="dcterms:W3CDTF">2025-04-06T06:49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D653606316A4BEF8B0FCF365913BDFC_12</vt:lpwstr>
  </property>
  <property fmtid="{D5CDD505-2E9C-101B-9397-08002B2CF9AE}" pid="3" name="KSOProductBuildVer">
    <vt:lpwstr>1049-12.2.0.20782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