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B9D-833A-4EF5-B530-2A4E25AB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8D4-999A-4FFA-86DB-AB589944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E00-83A2-49C7-B119-2FD731C8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D53-3D67-40BB-B401-6CAA9BFB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1882-034B-4D03-8EFC-6C783F00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1CD7-57F9-4CEA-8BAC-57AD6197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3827-8B60-4136-B0F8-056DA632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531F-DAB9-4B50-B27C-B765583E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6C82-0818-4505-B373-2974EEB2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190440"/>
            <a:ext cx="10972440" cy="269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16A5-B6A2-4650-AD15-345760BD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01FC-4AF7-4C91-8D36-F6E2FD5F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C0A-15EE-45B8-8720-B5E7FD58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CEAE-6EA1-4C1F-B346-74150647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110D-7E42-4F19-A524-E23665EE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E425-665D-4686-9E95-56A024C9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7659-479E-470A-98A7-2471B3ED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1964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2980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1964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2980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4680-CD43-437B-8208-F3595D5F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5A8-D813-4885-A472-71723688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D08-D313-412B-ADF7-C6DF61F4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172-5F0A-4CE9-A196-F58FC2CF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90440"/>
            <a:ext cx="10972440" cy="269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493-96FC-46EB-A840-9B1ED685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3C8-E868-4DD4-9926-0954CA76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5D3F-BC0A-4C09-AEC2-11EE4F6C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AF1-8122-42AC-AC6C-8B942ED2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-8640" y="0"/>
            <a:ext cx="122000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63880" y="1701720"/>
            <a:ext cx="9211320" cy="1082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-8640" y="0"/>
            <a:ext cx="12200040" cy="6857640"/>
          </a:xfrm>
          <a:prstGeom prst="rect">
            <a:avLst/>
          </a:prstGeom>
          <a:ln w="9525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3880" y="1701720"/>
            <a:ext cx="9211320" cy="1082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63880" y="2927520"/>
            <a:ext cx="9217800" cy="175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87" name="Изображение 3" descr="og_og_1567193216275491976"/>
          <p:cNvPicPr/>
          <p:nvPr/>
        </p:nvPicPr>
        <p:blipFill>
          <a:blip r:embed="rId1"/>
          <a:stretch/>
        </p:blipFill>
        <p:spPr>
          <a:xfrm>
            <a:off x="380880" y="438120"/>
            <a:ext cx="1142964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4" name="Изображение 3" descr="5ebfd82445bd5c46db00a8a7c46bb5182451326a"/>
          <p:cNvPicPr/>
          <p:nvPr/>
        </p:nvPicPr>
        <p:blipFill>
          <a:blip r:embed="rId1"/>
          <a:stretch/>
        </p:blipFill>
        <p:spPr>
          <a:xfrm>
            <a:off x="1016640" y="190440"/>
            <a:ext cx="8945640" cy="67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7" name="Изображение 3" descr=""/>
          <p:cNvPicPr/>
          <p:nvPr/>
        </p:nvPicPr>
        <p:blipFill>
          <a:blip r:embed="rId1"/>
          <a:stretch/>
        </p:blipFill>
        <p:spPr>
          <a:xfrm>
            <a:off x="464760" y="333360"/>
            <a:ext cx="107769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0" name="Изображение 3" descr="dae63650972fb1873bf900b1c0dedb34"/>
          <p:cNvPicPr/>
          <p:nvPr/>
        </p:nvPicPr>
        <p:blipFill>
          <a:blip r:embed="rId1"/>
          <a:stretch/>
        </p:blipFill>
        <p:spPr>
          <a:xfrm>
            <a:off x="958680" y="0"/>
            <a:ext cx="10274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3" name="Изображение 3" descr="cf2b966s-1920"/>
          <p:cNvPicPr/>
          <p:nvPr/>
        </p:nvPicPr>
        <p:blipFill>
          <a:blip r:embed="rId1"/>
          <a:stretch/>
        </p:blipFill>
        <p:spPr>
          <a:xfrm>
            <a:off x="782280" y="0"/>
            <a:ext cx="106264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26" name="Изображение 3" descr="1508428399BANNER_primerosperritosespacio"/>
          <p:cNvPicPr/>
          <p:nvPr/>
        </p:nvPicPr>
        <p:blipFill>
          <a:blip r:embed="rId1"/>
          <a:stretch/>
        </p:blipFill>
        <p:spPr>
          <a:xfrm>
            <a:off x="0" y="546840"/>
            <a:ext cx="12191760" cy="57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0" name="Изображение 3" descr=""/>
          <p:cNvPicPr/>
          <p:nvPr/>
        </p:nvPicPr>
        <p:blipFill>
          <a:blip r:embed="rId1"/>
          <a:stretch/>
        </p:blipFill>
        <p:spPr>
          <a:xfrm>
            <a:off x="609480" y="190440"/>
            <a:ext cx="10143000" cy="63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3" name="Изображение 3" descr="krasivye-kartinki-zvezd-2-3-scaled"/>
          <p:cNvPicPr/>
          <p:nvPr/>
        </p:nvPicPr>
        <p:blipFill>
          <a:blip r:embed="rId1"/>
          <a:stretch/>
        </p:blipFill>
        <p:spPr>
          <a:xfrm>
            <a:off x="1219320" y="173520"/>
            <a:ext cx="9753120" cy="65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6" name="Изображение 3" descr="dae63650972fb1873bf900b1c0dedb34"/>
          <p:cNvPicPr/>
          <p:nvPr/>
        </p:nvPicPr>
        <p:blipFill>
          <a:blip r:embed="rId1"/>
          <a:stretch/>
        </p:blipFill>
        <p:spPr>
          <a:xfrm>
            <a:off x="958680" y="0"/>
            <a:ext cx="10274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99" name="Изображение 3" descr="krasivye-kartinki-zvezd-2-3-scaled"/>
          <p:cNvPicPr/>
          <p:nvPr/>
        </p:nvPicPr>
        <p:blipFill>
          <a:blip r:embed="rId1"/>
          <a:stretch/>
        </p:blipFill>
        <p:spPr>
          <a:xfrm>
            <a:off x="1219320" y="173520"/>
            <a:ext cx="9753120" cy="65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2" name="Изображение 3" descr="belka-i-strelka"/>
          <p:cNvPicPr/>
          <p:nvPr/>
        </p:nvPicPr>
        <p:blipFill>
          <a:blip r:embed="rId1"/>
          <a:stretch/>
        </p:blipFill>
        <p:spPr>
          <a:xfrm>
            <a:off x="0" y="1099800"/>
            <a:ext cx="121917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5" name="Изображение 3" descr="eXApUAZ7IobsAOZLlM_7zqDrUg8AUA2ROLPSZmBGDDWoAcEJNzCuP6Had4suCSyeilItoWLTgMRFn32b85ysljFL"/>
          <p:cNvPicPr/>
          <p:nvPr/>
        </p:nvPicPr>
        <p:blipFill>
          <a:blip r:embed="rId1"/>
          <a:stretch/>
        </p:blipFill>
        <p:spPr>
          <a:xfrm>
            <a:off x="134640" y="1004400"/>
            <a:ext cx="1024740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08" name="Изображение 3" descr=""/>
          <p:cNvPicPr/>
          <p:nvPr/>
        </p:nvPicPr>
        <p:blipFill>
          <a:blip r:embed="rId1"/>
          <a:stretch/>
        </p:blipFill>
        <p:spPr>
          <a:xfrm>
            <a:off x="-5976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pic>
        <p:nvPicPr>
          <p:cNvPr id="111" name="Изображение 3" descr="MeKIDDCXYYA"/>
          <p:cNvPicPr/>
          <p:nvPr/>
        </p:nvPicPr>
        <p:blipFill>
          <a:blip r:embed="rId1"/>
          <a:stretch/>
        </p:blipFill>
        <p:spPr>
          <a:xfrm>
            <a:off x="0" y="990720"/>
            <a:ext cx="12191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ear Drives">
  <a:themeElements>
    <a:clrScheme name="Gear Drives 13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5f5f5f"/>
      </a:accent1>
      <a:accent2>
        <a:srgbClr val="969696"/>
      </a:accent2>
      <a:accent3>
        <a:srgbClr val="ffffff"/>
      </a:accent3>
      <a:accent4>
        <a:srgbClr val="000000"/>
      </a:accent4>
      <a:accent5>
        <a:srgbClr val="b6b6b6"/>
      </a:accent5>
      <a:accent6>
        <a:srgbClr val="878787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ear Drives">
  <a:themeElements>
    <a:clrScheme name="Gear Drives 13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5f5f5f"/>
      </a:accent1>
      <a:accent2>
        <a:srgbClr val="969696"/>
      </a:accent2>
      <a:accent3>
        <a:srgbClr val="ffffff"/>
      </a:accent3>
      <a:accent4>
        <a:srgbClr val="000000"/>
      </a:accent4>
      <a:accent5>
        <a:srgbClr val="b6b6b6"/>
      </a:accent5>
      <a:accent6>
        <a:srgbClr val="878787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4-06T06:34:23Z</dcterms:created>
  <dc:creator/>
  <dc:description/>
  <dc:language>en-US</dc:language>
  <cp:lastModifiedBy>Екатерина Пономарёва</cp:lastModifiedBy>
  <dcterms:modified xsi:type="dcterms:W3CDTF">2025-04-06T06:49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D653606316A4BEF8B0FCF365913BDFC_12</vt:lpwstr>
  </property>
  <property fmtid="{D5CDD505-2E9C-101B-9397-08002B2CF9AE}" pid="3" name="KSOProductBuildVer">
    <vt:lpwstr>1049-12.2.0.20782</vt:lpwstr>
  </property>
  <property fmtid="{D5CDD505-2E9C-101B-9397-08002B2CF9AE}" pid="4" name="PresentationFormat">
    <vt:lpwstr>宽屏</vt:lpwstr>
  </property>
  <property fmtid="{D5CDD505-2E9C-101B-9397-08002B2CF9AE}" pid="5" name="Slides">
    <vt:r8>15</vt:r8>
  </property>
</Properties>
</file>