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89D-50FE-40EE-944C-729F4E0A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E58-458F-4D9C-88D8-C0D780E4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5B3-4C2A-48B3-AF53-C00C0E3F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12C-9A14-4363-92D5-383E379C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5830-D4EA-4C7F-B22F-222AC011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6F35-F432-43D5-B726-1AADE068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08E5-4154-4047-8B83-82DBCDDA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B145-E0AF-4673-85F9-047292D0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B697-F9C5-4323-8581-9FFA0B98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C9BE-AEBB-40B3-8254-9DBFAFDE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A6A8-6F2E-402D-8A2B-965E5B8E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2B3-B4C4-4438-9C5A-3CC1F128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A8F6-DA32-428E-9EB4-73ECE004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922B-733F-4B05-B769-AB462B7E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82A4-FFD4-4AB5-86E2-F6B02C0A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385D-678A-43C2-B659-415CA2C4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5AF1-07A3-4BA2-9636-5EB4FA2B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96A-F11C-4AFE-9E2D-E7BA62BD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FDB-3533-4C51-AEA3-C242D335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74A-CAEB-4A07-BD9A-4831F284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993-7B79-44C8-AA1C-06E3736E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72B-28BD-494F-9343-8B2C672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2B9-53DA-45F0-A524-7ACB2DA1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DB1-6C76-46D5-995E-EDDF1C4D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8640" y="0"/>
            <a:ext cx="122000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63880" y="1701720"/>
            <a:ext cx="92113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-8640" y="0"/>
            <a:ext cx="12200040" cy="6857640"/>
          </a:xfrm>
          <a:prstGeom prst="rect">
            <a:avLst/>
          </a:prstGeom>
          <a:ln w="9525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3880" y="1701720"/>
            <a:ext cx="92113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63880" y="2927520"/>
            <a:ext cx="9217800" cy="175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87" name="Изображение 3" descr="og_og_1567193216275491976"/>
          <p:cNvPicPr/>
          <p:nvPr/>
        </p:nvPicPr>
        <p:blipFill>
          <a:blip r:embed="rId1"/>
          <a:stretch/>
        </p:blipFill>
        <p:spPr>
          <a:xfrm>
            <a:off x="380880" y="438120"/>
            <a:ext cx="1142964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4" name="Изображение 3" descr="5ebfd82445bd5c46db00a8a7c46bb5182451326a"/>
          <p:cNvPicPr/>
          <p:nvPr/>
        </p:nvPicPr>
        <p:blipFill>
          <a:blip r:embed="rId1"/>
          <a:stretch/>
        </p:blipFill>
        <p:spPr>
          <a:xfrm>
            <a:off x="1016640" y="190440"/>
            <a:ext cx="8945640" cy="67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7" name="Изображение 3" descr=""/>
          <p:cNvPicPr/>
          <p:nvPr/>
        </p:nvPicPr>
        <p:blipFill>
          <a:blip r:embed="rId1"/>
          <a:stretch/>
        </p:blipFill>
        <p:spPr>
          <a:xfrm>
            <a:off x="464760" y="333360"/>
            <a:ext cx="107769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0" name="Изображение 3" descr="dae63650972fb1873bf900b1c0dedb34"/>
          <p:cNvPicPr/>
          <p:nvPr/>
        </p:nvPicPr>
        <p:blipFill>
          <a:blip r:embed="rId1"/>
          <a:stretch/>
        </p:blipFill>
        <p:spPr>
          <a:xfrm>
            <a:off x="958680" y="0"/>
            <a:ext cx="10274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3" name="Изображение 3" descr="cf2b966s-1920"/>
          <p:cNvPicPr/>
          <p:nvPr/>
        </p:nvPicPr>
        <p:blipFill>
          <a:blip r:embed="rId1"/>
          <a:stretch/>
        </p:blipFill>
        <p:spPr>
          <a:xfrm>
            <a:off x="782280" y="0"/>
            <a:ext cx="106264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6" name="Изображение 3" descr="1508428399BANNER_primerosperritosespacio"/>
          <p:cNvPicPr/>
          <p:nvPr/>
        </p:nvPicPr>
        <p:blipFill>
          <a:blip r:embed="rId1"/>
          <a:stretch/>
        </p:blipFill>
        <p:spPr>
          <a:xfrm>
            <a:off x="0" y="546840"/>
            <a:ext cx="12191760" cy="57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0" name="Изображение 3" descr=""/>
          <p:cNvPicPr/>
          <p:nvPr/>
        </p:nvPicPr>
        <p:blipFill>
          <a:blip r:embed="rId1"/>
          <a:stretch/>
        </p:blipFill>
        <p:spPr>
          <a:xfrm>
            <a:off x="609480" y="190440"/>
            <a:ext cx="10143000" cy="63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3" name="Изображение 3" descr="krasivye-kartinki-zvezd-2-3-scaled"/>
          <p:cNvPicPr/>
          <p:nvPr/>
        </p:nvPicPr>
        <p:blipFill>
          <a:blip r:embed="rId1"/>
          <a:stretch/>
        </p:blipFill>
        <p:spPr>
          <a:xfrm>
            <a:off x="1219320" y="173520"/>
            <a:ext cx="9753120" cy="65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6" name="Изображение 3" descr="dae63650972fb1873bf900b1c0dedb34"/>
          <p:cNvPicPr/>
          <p:nvPr/>
        </p:nvPicPr>
        <p:blipFill>
          <a:blip r:embed="rId1"/>
          <a:stretch/>
        </p:blipFill>
        <p:spPr>
          <a:xfrm>
            <a:off x="958680" y="0"/>
            <a:ext cx="10274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9" name="Изображение 3" descr="krasivye-kartinki-zvezd-2-3-scaled"/>
          <p:cNvPicPr/>
          <p:nvPr/>
        </p:nvPicPr>
        <p:blipFill>
          <a:blip r:embed="rId1"/>
          <a:stretch/>
        </p:blipFill>
        <p:spPr>
          <a:xfrm>
            <a:off x="1219320" y="173520"/>
            <a:ext cx="9753120" cy="65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2" name="Изображение 3" descr="belka-i-strelka"/>
          <p:cNvPicPr/>
          <p:nvPr/>
        </p:nvPicPr>
        <p:blipFill>
          <a:blip r:embed="rId1"/>
          <a:stretch/>
        </p:blipFill>
        <p:spPr>
          <a:xfrm>
            <a:off x="0" y="1099800"/>
            <a:ext cx="121917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5" name="Изображение 3" descr="eXApUAZ7IobsAOZLlM_7zqDrUg8AUA2ROLPSZmBGDDWoAcEJNzCuP6Had4suCSyeilItoWLTgMRFn32b85ysljFL"/>
          <p:cNvPicPr/>
          <p:nvPr/>
        </p:nvPicPr>
        <p:blipFill>
          <a:blip r:embed="rId1"/>
          <a:stretch/>
        </p:blipFill>
        <p:spPr>
          <a:xfrm>
            <a:off x="134640" y="1004400"/>
            <a:ext cx="1024740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8" name="Изображение 3" descr=""/>
          <p:cNvPicPr/>
          <p:nvPr/>
        </p:nvPicPr>
        <p:blipFill>
          <a:blip r:embed="rId1"/>
          <a:stretch/>
        </p:blipFill>
        <p:spPr>
          <a:xfrm>
            <a:off x="-5976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1" name="Изображение 3" descr="MeKIDDCXYYA"/>
          <p:cNvPicPr/>
          <p:nvPr/>
        </p:nvPicPr>
        <p:blipFill>
          <a:blip r:embed="rId1"/>
          <a:stretch/>
        </p:blipFill>
        <p:spPr>
          <a:xfrm>
            <a:off x="0" y="990720"/>
            <a:ext cx="12191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ear Drives">
  <a:themeElements>
    <a:clrScheme name="Gear Drives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5f5f5f"/>
      </a:accent1>
      <a:accent2>
        <a:srgbClr val="969696"/>
      </a:accent2>
      <a:accent3>
        <a:srgbClr val="ffffff"/>
      </a:accent3>
      <a:accent4>
        <a:srgbClr val="000000"/>
      </a:accent4>
      <a:accent5>
        <a:srgbClr val="b6b6b6"/>
      </a:accent5>
      <a:accent6>
        <a:srgbClr val="878787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ear Drives">
  <a:themeElements>
    <a:clrScheme name="Gear Drives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5f5f5f"/>
      </a:accent1>
      <a:accent2>
        <a:srgbClr val="969696"/>
      </a:accent2>
      <a:accent3>
        <a:srgbClr val="ffffff"/>
      </a:accent3>
      <a:accent4>
        <a:srgbClr val="000000"/>
      </a:accent4>
      <a:accent5>
        <a:srgbClr val="b6b6b6"/>
      </a:accent5>
      <a:accent6>
        <a:srgbClr val="878787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4-06T06:34:23Z</dcterms:created>
  <dc:creator/>
  <dc:description/>
  <dc:language>en-US</dc:language>
  <cp:lastModifiedBy>Екатерина Пономарёва</cp:lastModifiedBy>
  <dcterms:modified xsi:type="dcterms:W3CDTF">2025-04-06T06:49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D653606316A4BEF8B0FCF365913BDFC_12</vt:lpwstr>
  </property>
  <property fmtid="{D5CDD505-2E9C-101B-9397-08002B2CF9AE}" pid="3" name="KSOProductBuildVer">
    <vt:lpwstr>1049-12.2.0.20782</vt:lpwstr>
  </property>
  <property fmtid="{D5CDD505-2E9C-101B-9397-08002B2CF9AE}" pid="4" name="PresentationFormat">
    <vt:lpwstr>宽屏</vt:lpwstr>
  </property>
  <property fmtid="{D5CDD505-2E9C-101B-9397-08002B2CF9AE}" pid="5" name="Slides">
    <vt:r8>15</vt:r8>
  </property>
</Properties>
</file>