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EBC-0E89-4C5D-B94B-7C1CFB86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55B-77A6-4834-89DC-BF90AA5B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924-D037-4FEC-B881-41C23724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64E-D008-4494-A5F2-BAFDD223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3C2D-FD36-4C46-AA7B-FB422470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49AA-F86F-4D01-8F7C-486CBCFA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1659-B235-48A4-B26E-CFAC59C3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A24B-B719-4E9B-AF3B-6CECD048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55D0-0C7E-47FC-9C8B-B9BB0A1D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8707-0433-4E51-A8DA-43C46B3D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F56D-4EC9-41EE-99F6-DBE64F42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C42-2806-4573-AB8E-332C1DA7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8CD7-617D-4E76-8C20-7044BBA7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236A-195C-427C-8F66-64CF63B9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F0DB-F005-4C39-847E-9FAC32E9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0D51-1439-4443-9156-D6AEF510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E587-D9A2-4052-B02D-EF2F8DB8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D18-326F-4A78-B3A9-1A3E6E3E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8C9-458D-4B92-A80F-4C56F4DD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DA6-731B-4A01-A35D-4EE129F8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22E-9A08-4405-8C95-C2C5B358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CBB-8F61-4B21-8116-54A603A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242-89EA-461A-9480-ACEADCEF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70E-624B-4379-BBA6-9EE8A18F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63880" y="2927520"/>
            <a:ext cx="9217800" cy="175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87" name="Изображение 3" descr="og_og_1567193216275491976"/>
          <p:cNvPicPr/>
          <p:nvPr/>
        </p:nvPicPr>
        <p:blipFill>
          <a:blip r:embed="rId1"/>
          <a:stretch/>
        </p:blipFill>
        <p:spPr>
          <a:xfrm>
            <a:off x="380880" y="438120"/>
            <a:ext cx="1142964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4" name="Изображение 3" descr="5ebfd82445bd5c46db00a8a7c46bb5182451326a"/>
          <p:cNvPicPr/>
          <p:nvPr/>
        </p:nvPicPr>
        <p:blipFill>
          <a:blip r:embed="rId1"/>
          <a:stretch/>
        </p:blipFill>
        <p:spPr>
          <a:xfrm>
            <a:off x="1016640" y="190440"/>
            <a:ext cx="8945640" cy="67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7" name="Изображение 3" descr=""/>
          <p:cNvPicPr/>
          <p:nvPr/>
        </p:nvPicPr>
        <p:blipFill>
          <a:blip r:embed="rId1"/>
          <a:stretch/>
        </p:blipFill>
        <p:spPr>
          <a:xfrm>
            <a:off x="464760" y="333360"/>
            <a:ext cx="107769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0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3" name="Изображение 3" descr="cf2b966s-1920"/>
          <p:cNvPicPr/>
          <p:nvPr/>
        </p:nvPicPr>
        <p:blipFill>
          <a:blip r:embed="rId1"/>
          <a:stretch/>
        </p:blipFill>
        <p:spPr>
          <a:xfrm>
            <a:off x="782280" y="0"/>
            <a:ext cx="106264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6" name="Изображение 3" descr="1508428399BANNER_primerosperritosespacio"/>
          <p:cNvPicPr/>
          <p:nvPr/>
        </p:nvPicPr>
        <p:blipFill>
          <a:blip r:embed="rId1"/>
          <a:stretch/>
        </p:blipFill>
        <p:spPr>
          <a:xfrm>
            <a:off x="0" y="546840"/>
            <a:ext cx="12191760" cy="57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0" name="Изображение 3" descr=""/>
          <p:cNvPicPr/>
          <p:nvPr/>
        </p:nvPicPr>
        <p:blipFill>
          <a:blip r:embed="rId1"/>
          <a:stretch/>
        </p:blipFill>
        <p:spPr>
          <a:xfrm>
            <a:off x="609480" y="190440"/>
            <a:ext cx="10143000" cy="63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3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6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9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2" name="Изображение 3" descr="belka-i-strelka"/>
          <p:cNvPicPr/>
          <p:nvPr/>
        </p:nvPicPr>
        <p:blipFill>
          <a:blip r:embed="rId1"/>
          <a:stretch/>
        </p:blipFill>
        <p:spPr>
          <a:xfrm>
            <a:off x="0" y="1099800"/>
            <a:ext cx="121917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5" name="Изображение 3" descr="eXApUAZ7IobsAOZLlM_7zqDrUg8AUA2ROLPSZmBGDDWoAcEJNzCuP6Had4suCSyeilItoWLTgMRFn32b85ysljFL"/>
          <p:cNvPicPr/>
          <p:nvPr/>
        </p:nvPicPr>
        <p:blipFill>
          <a:blip r:embed="rId1"/>
          <a:stretch/>
        </p:blipFill>
        <p:spPr>
          <a:xfrm>
            <a:off x="134640" y="1004400"/>
            <a:ext cx="102474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8" name="Изображение 3" descr=""/>
          <p:cNvPicPr/>
          <p:nvPr/>
        </p:nvPicPr>
        <p:blipFill>
          <a:blip r:embed="rId1"/>
          <a:stretch/>
        </p:blipFill>
        <p:spPr>
          <a:xfrm>
            <a:off x="-5976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1" name="Изображение 3" descr="MeKIDDCXYYA"/>
          <p:cNvPicPr/>
          <p:nvPr/>
        </p:nvPicPr>
        <p:blipFill>
          <a:blip r:embed="rId1"/>
          <a:stretch/>
        </p:blipFill>
        <p:spPr>
          <a:xfrm>
            <a:off x="0" y="990720"/>
            <a:ext cx="12191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4-06T06:34:23Z</dcterms:created>
  <dc:creator/>
  <dc:description/>
  <dc:language>en-US</dc:language>
  <cp:lastModifiedBy>Екатерина Пономарёва</cp:lastModifiedBy>
  <dcterms:modified xsi:type="dcterms:W3CDTF">2025-04-06T06:49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D653606316A4BEF8B0FCF365913BDFC_12</vt:lpwstr>
  </property>
  <property fmtid="{D5CDD505-2E9C-101B-9397-08002B2CF9AE}" pid="3" name="KSOProductBuildVer">
    <vt:lpwstr>1049-12.2.0.20782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